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C056-7BA8-4C0B-8B95-8BF55563C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A7A-96CE-4922-A8C3-F4DDA588FF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083D-A98C-492B-9759-C9BA6BB6F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3DAF-3E87-487B-A426-C2BFD81E2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119F-8199-4F4E-BB4D-AC5F6197F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80EE-069B-4EBC-8E4D-57B6DA843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5F96-54F1-40B9-877A-D4165BEC6D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B196-CD9D-463D-9ADF-4D04EFD0E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3A9-5D9D-4154-AF06-9D1C77C39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D831-D7AB-49BE-BFDB-57C5E4825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E6F-BB41-4ACC-B1D2-83CA0ECC7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D444-39DD-49DF-9E4E-15AFF4643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9EF0-255E-4901-81AC-A4A95009B9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7B28-9557-4D57-A88A-A4A21C689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4772-DD53-4892-8788-A30B6D355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D77-428F-4CCA-A904-64C81024E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3B9D-BC80-4071-95F7-260A44D11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8CB-4DE2-4604-9D23-2AD89815A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6E21-3D5A-454B-9A19-5A4847914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3F0-006B-44BD-A177-D704823DC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CF8-D060-4794-B435-A9658A6D9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377-BD23-46B4-AE7A-E4E664176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363-C54E-41AD-8F71-18762458B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FF3-8C5F-4AF0-9B53-77668CD698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90BF-DBC5-496A-B3AE-17B806B49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BF00-958E-4F6D-9255-AEDE7105F5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AB49-D8F9-4F18-8E32-4A5EF5797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B37-221C-46F3-B111-57241F8D4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AB88-23B6-4803-AE26-497B85304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598C-B6FD-4A8F-9448-5611CD7A1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B8AF-F5A8-4DCC-9075-C6F654F5C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5426-FD43-451C-9CB8-8D862ACE3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B13-821E-49F3-B170-983916F0F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9F08-3330-4FB0-9DBF-343AFFB53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8D1-09B0-476B-9396-05065AEDC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5507-304B-4996-AA78-4B4EBC84E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078-8112-45D2-B420-9C7E68A16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D0B5-7BE6-4B59-ACC3-C71F46DC2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39FC-C268-4393-BDA5-04634F8AA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E21-D5B6-480E-8D6D-5DDBA0425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DCA-3B7C-4144-8986-09BE28711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3D13-BDDD-487A-B368-E9BBC214D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A03C-56B7-47F1-956D-909534FD3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0A99-F80F-4B36-A26F-18AA7E2B2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CDF-FEE2-4E58-8729-3639B32B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406-AA70-41A8-9F0C-0E7DDC6F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652-B229-43C8-82C6-DBE1DFE3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F16-A5A4-4B45-AB40-D21CA98C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74C-09FC-4DC7-880F-F95619EA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D5F-25A0-44DB-9818-5E8A44F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332-C54B-4EB2-8E5A-EB4B6D6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F27-6777-49F4-9CE4-A1C94BC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810-2A4B-4257-A64E-532552C3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C55-314B-48CE-AD37-463017F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43E-12B1-441A-81B4-5B273BDD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583-5132-4133-B525-CD98916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09FA-A58D-416C-B48B-1BA2C6F0D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тоги ЕГЭ по биологии в 2019 году по Орловской области и разбор типичных ошибок шк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25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е организации, продемонстрировавшие наиболее высокие результаты ЕГЭ по биологии. (Учитывались школы, в которых было более 9-ти участников ЕГЭ по биолог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523880"/>
          <a:ext cx="9144000" cy="5010120"/>
        </p:xfrm>
        <a:graphic>
          <a:graphicData uri="http://schemas.openxmlformats.org/drawingml/2006/table">
            <a:tbl>
              <a:tblPr/>
              <a:tblGrid>
                <a:gridCol w="4043520"/>
                <a:gridCol w="1892160"/>
                <a:gridCol w="1727280"/>
                <a:gridCol w="148104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частников, получивших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81 до 10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частников, получивших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1 до 8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частник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достигших минимального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- лицей № 22 имени А. П. Иванова города Ор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 40 г. Ор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города Мценска «Средняя общеобразовательная школа № 7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Гимназия города Лив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ОУ города Мценска «Средняя общеобразовательная школа № 9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21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е количество высокобалльников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редний бал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 школе 62 – 6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редний по региону 53,26)  и отсутствие выпускников, не преодолевших минимального порога, установлено в следующих школах: МБОУ «Средняя общеобразовательная школа № 7» г. Мценска (69,4), МБОУ лицей № 40 г. Орла (68,33), МБОУ - лицей № 22 г. Орла (66), МБОУ Гимназия г. Ливны (66,25), МБОУ г. Мценска «Средняя общеобразовательная школа № 9» (62,4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ие результаты продемонстрировали выпускники следующих учебных учреждений: «Стрелецкая СОШ» Орловского района, лицей № 4, школа № 6, школа № 12, лицей № 32, школа № 33 г. Орла. Следует отметить, что Стрелецкая средняя общеобразовательная школа Орловского района и лицей № 40 г. Орла в течение трех лет входят в число луч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Диаграмма 1" descr=""/>
          <p:cNvPicPr/>
          <p:nvPr/>
        </p:nvPicPr>
        <p:blipFill>
          <a:blip r:embed="rId1"/>
          <a:srcRect l="0" t="0" r="0" b="-97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арактеристика экзаменационной работы 2020 го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вариант экзаменационной работы состоит из двух частей и включает 28 заданий. Часть 1 - 21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множественным выбором с рис. и без рис. – 6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становление соответствия с рис. и без рис – 6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установление последовательности – 3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дополнение схемы – 1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дополнение таблицы, с рис. или без рис. – 2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анализ графика, таблиц, диаграмм – 1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ое задание части 1 оценивается 1 или 2 баллами. Всего за задания 1 части – 38 баллов. Часть 2 – 7 заданий с развернутым ответом Всего за задания 2 части – 20 баллов. Максимальное количество баллов за всю работу – 58. Время выполнения работы 21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ЗАДАНИЙ ПО СОДЕРЖАТЕЛЬНЫМ РАЗДЕЛАМ В КИМ (КЭС)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держательные раздел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ичество задан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Биология как нау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ы научного позна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Клетка как биологическая систем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–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–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Организм как биологическая систем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–5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–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Система и многообраз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ганического ми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Организм человека и его здоровь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Эволюция живой природ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Экосистемы и присущие 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то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-119160"/>
            <a:ext cx="91440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80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2 – практикаориентированные зад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3 – на работу с рисунко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4 – на исправление ошибок в текст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5 – растения, животные, челове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6 – эволюция и эк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7 – задачи по цитолог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8 – задачи по генети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 задании указано «Ответ поясните», «Приведите доказательства», «Объясните значение» и т.д., то отсутствие пояснения в ответе снижает бал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4575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и ожидалось, наиболее высоким оказался процент выполнения заданий базового уровня сложности. А наибольшее число участников хорошо справились с заданием, где участники ЕГЭ должны были выбра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логические критерии ви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Вместе с тем, выпускниками слабо усвоены понят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оморфоз и идиоадаптация, этапы гаметогене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ьшие затруднения у всех групп участников ЕГЭ вызвали зада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последовательности явлений или 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або знают выпускники школ последователь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цессов, которые происходили на ранних этапах возникновения жизни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слабых участников ЕГЭ сложными оказались вопросы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ости процессов, происходящих при свертывании крови. Традиционно затруднения вызывают этапы пищеварени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062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идаемо низкие результаты были получены по заданиям высокого уровня сложности, процент выполнения которых колебался от 9,42% на задание 22 до 52,41% на задание 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же сильные ученики путаются в понятия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струла и нейру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сложным для участников ЕГЭ всех групп оказалось задание 22, в котором спрашивалось об эксперименте, позволивш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казать полуконсервативность репликации молекулы ДН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тот вопрос выходит за рамки школьной программы, изучающей биологию на базовом уровне. Не во всех учебниках для углубленного изучения биологии говорится об этом эксперименте. С этим вопросом справились только 1,67% не преодолевших минимальный порог и 25% высокобал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0382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ния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58 году в процессе эксперимента был установлен полуконсервативный принцип репликации ДНК. В качестве объекта использовали бактерию кишечную палочку. Бактерии длительное время выращивали на питательной среде, содержащей нуклеотиды с тяжелым изотоп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затем перевели на среду с легким изотоп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ак называется используемый в эксперименте метод? Какие изотопы азота содержали цепи новых молекул ДНК после первого деления клетки на новой питательно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лементы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использовался метод меченых ато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новые молекулы содержали одну цепь с изотоп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5(исходная) и одну цепь с  изотоп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4(нов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ценив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андартное: 2 элемента – 2 балла, 1 элемент –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ализ структуры КИ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219320"/>
          <a:ext cx="9144000" cy="5776920"/>
        </p:xfrm>
        <a:graphic>
          <a:graphicData uri="http://schemas.openxmlformats.org/drawingml/2006/table">
            <a:tbl>
              <a:tblPr/>
              <a:tblGrid>
                <a:gridCol w="1268280"/>
                <a:gridCol w="1990800"/>
                <a:gridCol w="2227320"/>
                <a:gridCol w="1828800"/>
                <a:gridCol w="1828800"/>
              </a:tblGrid>
              <a:tr h="24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ый первичны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количество баллов за задание блока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я баллов за задание блока 2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-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10512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ля изучения митохондриальной ДНК ученому необходимо выделить митохондрии из животных клеток методом центрифугирования. На чем основан этот метод? После каких структур он может получить митохондриальную фракцию. Ответ поясни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. Метод центрифугирования основан на разделении объектов различной плотности или массы за счет разной скорости оседания объ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Митохондриальная фракция может быть получена после осаждения ядер как самых плотных (тяжелых) клеточных структур (плотность митохондрий ниже плотности ядер, но выше плотности всех остальных струк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90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йствие некоторых лекарственных препаратов связано с подавлением ферментативных процессов в клетках бактерий. Препараты подавляют активность ферментов, обеспечивающих процесс окислительного фосфорилирования. Синтез какого вещества подавляют эти препараты? Где происходят эти процессы в клетке бактер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препараты подавляют синтез молекул АТФ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процессы происходят на впячиваниях плазматической мембраны клетки (мезосома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ия 2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карственный препарат представляет собой фермент, который катализиру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рушение муреина клеточной стенки возбудителя. На какую групп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ганизмов действует этот препарат? Почему для клеток человека он нетоксичен? Ответ обоснуй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) препарат действует на бактерии, так как их клеточная ст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стоит из муреин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) для клеток человека он нетоксичен, поскольку у них отсутству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леточная стенка из муре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40032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ния 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те тип и фазу деления исходной диплоидной клетки. Обоснуйте выбор типа и фазы дел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97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00280" y="1905120"/>
            <a:ext cx="3557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8580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менты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митоз, про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имеются гомологичные хромосомы, они лежат хаотично (конъюгации и кроссинговера не происходит, биваленты не образую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в профазе ядерная оболочка разрушается и формируется веретено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ивание стандартное: 3 элемента – 3 балла, 2 элемента – 2 балла, 1 элемент – 1 балл. Внимание! Ответ неправильный ИЛИ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неверно определен изображенный объек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0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ия 23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структуры кости взрослого человека обозначены на рисунке цифрами 1 и 2? Чем заполнены полости в этих структурах? Какие функции выполняет содержимое полостей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214880" y="2666880"/>
            <a:ext cx="3927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1 – губчатое вещество; 2 – полость к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губчатое вещество заполнено красным костным мозгом – кроветворная функ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полость (длинной трубчатой кости) заполнена жёлтым костным мозгом (жировая ткань) – запасающ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482760"/>
            <a:ext cx="88390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ХАРАКТЕРИСТИКА УЧАСТНИКОВ ЕГЭ ПО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828800"/>
          <a:ext cx="9144000" cy="3352680"/>
        </p:xfrm>
        <a:graphic>
          <a:graphicData uri="http://schemas.openxmlformats.org/drawingml/2006/table">
            <a:tbl>
              <a:tblPr/>
              <a:tblGrid>
                <a:gridCol w="1633680"/>
                <a:gridCol w="815760"/>
                <a:gridCol w="1631880"/>
                <a:gridCol w="817560"/>
                <a:gridCol w="1632240"/>
                <a:gridCol w="979200"/>
                <a:gridCol w="1633680"/>
              </a:tblGrid>
              <a:tr h="63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ебны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едме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ел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% от общего числа участнико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ел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% от общего числа участнико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ел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% от общего числа участнико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иолог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,1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5530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,8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3,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27"/>
          <p:cNvSpPr/>
          <p:nvPr/>
        </p:nvSpPr>
        <p:spPr>
          <a:xfrm>
            <a:off x="152280" y="5265720"/>
            <a:ext cx="8686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ношей – 233 (28,6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вушек – 580 (71,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ия 2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исунке изображены окаменевший череп и реконструкция вымерше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ого, обитавшего 267 млн лет наза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фрагмент «Геохронологической таблицы», определите, в как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ре и каком периоде обитал данный организ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ки какого класса имеет данное животное? Укажите их. Как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офический уровень занимало это животное в древней экосистеме? Отв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уйт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2803680"/>
            <a:ext cx="54864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эра – палеозойская; период – пермс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ласс Млекопитающие – дифференцированные зубы, наличие вол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нимало третий (четвёртый-пятый) трофический уровень, так как являлось хищником, имело хорошо развитые кл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ния 24. Найдите и исправьте три ошибки в приведённом тексте «Органы дыхания человека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)Дыхательная система человека состоит из воздухоносных путей и лёг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)Стенки трахей и бронхов образованы хрящевыми кольцами, которые не дают им спад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3)Изнутри трахея и бронхи выстланы плотной соединительной тканью, защищающей от пыли и микробов, увлажняющей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4)В нижней части трахея делится на два крупных бронха, входящих в правое и левое лёг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Мелкие бронхи – бронхиолы заканчиваются лёгочными пузырьками (альвеола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6)Снаружи каждое лёгкое покрыто лёгочной плеврой, которая осуществляет функцию газообм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7)Лёгкие расположены в грудной клетке, которая надёжно защищает эти органы от повре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2 – стенки трахеи образованы хрящевыми полукольц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3 – изнутри трахея и бронхи выстланы ресн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мерцательным) эпител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6 – лёгочная плевра защищает лёгкое (газообмен осуществляется в альвеол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и исправьте три ошибки в приведённом тексте «Моллюск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Моллюски – тип беспозвоночных животных, име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егментированное т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Моллюски имеют складку кожи – ман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Между мантией и телом образуется мантийная полость, в которой располагаются жабры, сердце, в неё открываются анальное и половое отверс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У большинства моллюсков есть раков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Кальмары, виноградные улитки, большой и малый прудовики, слизни – брюхоногие моллю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Все моллюски, обитающие в воде, дышат с помощью жа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)У моллюсков нервная система узлового типа, наибольшего развития она достигает у головоногих моллю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шибки допущены в предлож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3 – сердце располагается в теле моллю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5 – кальмары – головоногие моллюс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6 – некоторые водные моллюски дышат лёгкими (например, большой прудов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ия 2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де расположены нервные центры, регулирующие произво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непроизвольные дыхательные движения? Какова роль адрена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лёгочной вентиля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нервные центры, регулирующие непроизвольные дых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вижения, расположены в продолговатом мозг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нервные центры, регулирующие произвольные дых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вижения, расположены в коре больших полушар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адреналин увеличивает просвет бронхов, что способ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уплению воздуха (кислорода в лёгк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ия 2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рытый в ходе изъятия грунта котлован заполнили водой и запустили т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рпов для воспроизводства. Можно ли при этом считать этот водо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оценозом, а группу карпов популяцией? Ответ обоснуй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1243080" y="117360"/>
            <a:ext cx="75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инамика результатов ЕГЭ по предмету за последние 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990720"/>
          <a:ext cx="9144000" cy="5472000"/>
        </p:xfrm>
        <a:graphic>
          <a:graphicData uri="http://schemas.openxmlformats.org/drawingml/2006/table">
            <a:tbl>
              <a:tblPr/>
              <a:tblGrid>
                <a:gridCol w="3956040"/>
                <a:gridCol w="1636560"/>
                <a:gridCol w="1798920"/>
                <a:gridCol w="1752480"/>
              </a:tblGrid>
              <a:tr h="56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рлов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8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9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е преодолели минимального бал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 (15,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,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редни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РФ -51,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лучили от 81 до 100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,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,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лучили 100 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нет, чтобы стать экосистемой, водоём должен заселиться живыми организмами всех трёх функциональных групп: продуцентами, консументами, редуцент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одни карпы без прочих организмов не обеспечивают круговорота веществ и энергии, и саморегуляции эко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группа карпов не является популяцией, так как не происходила смена поколений в течение продолжительного времени, отсутствуют разные возрастн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ния 26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 каких условиях большой котлован, залитый водой, может стат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косистемой? Приведите три услов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водоём должны заселить разнообразные виды организмов разных функциональных групп (продуценты, консументы, редуцен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между организмами должны возникнуть биотические связи, образоваться цепи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должен сформироваться относительно сбалансированный круговорот веществ, что обеспечит длительность существования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чему в сауне при температуре около 100 ºC у человека сохран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рмальная температура тела? Ответ аргументируйт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 точки зрения нервной регуляци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температуры те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терморецепторы кожи реагируют на повышенную температуру, информация от них поступает в центр терморегуляции промежуточного моз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импульсы от центра терморегуляции поступают к кровеносным сосудам и потовым желе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расширяются кровеносные сосуды кожи и увеличивается теплоотдач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активируется функция потовых желёз, выделяется пот, при испарении которого охлаждается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 жаб площадь газообмена в лёгких значительно больше, чем у лягушек. К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ягушки компенсируют недостаток кислорода, поступающего в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рез лёгкие? Почему жабы, в отличие от лягушек, могут длитель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ходиться вне водоёма? Объясните, почему, несмотря на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тмосферным кислородом, у жаб и лягушек низкий уровень обмена вещ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лементы отв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) у лягушек газообмен происходит дополнительно через влажную кож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у жаб кожа сухая, бугристая, защищает организм от высыхания; в газообмене практически не участву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) низкий обмен веществ связан со слабым развитием лёгких и снабжением тела смешанной кровью (низкая концент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ислорода в кров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33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особенности в строени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ой, выделительной и полов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истем возникли у птиц в связи с приспособлением к поле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имеются губчатые легкие, что способствовало увеличению площади газооб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Появились воздушные мешки, что обеспечило двойное дыхание, газообмен происходит и на вдохе, а на выдо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у птиц отсутствует мочевой пузырь, что облегчает тело в пол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у самок имеется только один яичник, что облегчает вес тела в полет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39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ия 2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все виды РНК синтезируются на ДНК-матрице. Фрагмент цепи ДНК, на которой синтезируется участок центральной петли тРНК, имеет следующую последовательность нуклеотидов (верхняя цепь смысловая, нижняя транскрибируема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' - ЦГААГГТГАЦААТГТ-3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' – ГЦТТЦЦ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Ц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ТТАЦА - 5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ите нуклеотидную последовательность участка тРНК, который синтезируется на данном фрагменте, обозначьте 5' и 3' концы этого фрагмента и определите аминокислоту, которую будет переносить эта тРНК в процессе биосинтеза белка, если третий триплет с 5' конца соответствует антикодону тРНК. Ответ поясните. Для решения задания используйте таблицу генетическ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-1872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участников ЕГЭ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абравших минимальное количество баллов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равших от 36 до 100 баллов в 2017-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drawingml/2006/table">
            <a:tbl>
              <a:tblPr/>
              <a:tblGrid>
                <a:gridCol w="1434960"/>
                <a:gridCol w="1851120"/>
                <a:gridCol w="1530360"/>
                <a:gridCol w="1452600"/>
                <a:gridCol w="1460520"/>
                <a:gridCol w="14144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частников ЕГЭ, не набравших мин. 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участников ЕГЭ,  набравших количество баллов в разрезе от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7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5,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4,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6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23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3,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8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14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(30,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7 (35,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 (17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(1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19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5,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,8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5,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 (18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42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80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уклеотидная последовательность участка т-РНК: 5' – ЦГААГ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ААУГУ - 3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уклеотидная последовательность антикодона УГА (третий триплет) соответствует кодону на и-РНК 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 таблице генетического кода этому кодону соответствует аминокислота Сер, которую будет переносит данная т-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95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ния 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рагмент начала гена имеет следующую последовательность нуклеотидов (верхняя цепь — смысловая, нижняя — транскрибируемая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’ − ТААТГАЦЦГЦАТАТАТЦЦАТ −3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’ − АТТАЦТГГЦГТАТАТАГГТА −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ен содержит информативную и неинформативную части для трансляции. Информативная часть гена начинается с триплета, кодирующего аминокислоту Мет. С какого нуклеотида начинается информативная часть гена? Определите последовательность аминокислот во фрагменте полипептидной цепи. Ответ поясните. Для выполнения задания используйте таблицу генетического к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 принципу комплементарности находим цепь иРН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’ − У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ЦЦГЦАУАУАУЦЦАУ − 3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Информативная часть начинается с третьего нуклеотида Т на ДНК, так как кодон АУГ кодирует аминокислоту 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следовательность аминокислот находим по кодонам иРНК в таблице генетического к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-Тре-Ала-Тир-Иле-Г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364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ния 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лекулы тРНК, несущие соответствующие антикодоны, входят в рибосому в следующем порядке: ГУА, УАЦ, УГЦ, ГЦА. Определите последовательность нуклеотидов смысловой и транскрибируемой цепей ДНК, иРНК и аминокислот в молекуле синтезируемого фрагмента белка. Ответ поясните. Для решения задания используйте таблицу генетического кода. При выполнении задания учитывайте, что антикодоны тРНК антипараллельны кодонам иР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 принципу комплементарности определяем последовательность иРНК: 5’— УАЦГУАГЦАУГЦ - 3’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уклеотидную последовательность транскрибируемой и смысловой цепей ДНК также определяем по принципу комплементар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’ − ТАЦГ ТАГЦАТГЦ − 3’- смысл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’ − АТ ГЦАТЦГТАЦГ − 5’.- транскрибируе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 таблице генетического кода и кодонам иРНК находим последовательность аминокислот в пептиде: Тир-Вал-Ала-Ц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ния 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розофилы гетерогаметным полом является мужской пол. Скрещивали самок дрозофилы с серым телом, красными глазами и самцов с чёр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ом, белыми глазами, всё потомство было единообразным по признакам окраски тела и глаз. Во втором скрещивании самок дрозофилы с чёр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ом, белыми глазами и самцов с серым телом, красными глазами в потомстве получились самки с серым телом, красными глазами и сам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серым телом, белыми глазами. Составьте схемы скрещивания, определите генотипы и фенотипы родительских особей, потомства в двух скрещив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л потомства в первом скрещивании. Поясните, почему во втором скрещивании произошло расщепление призна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305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ния 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рестили растения томата с округлыми плодами, сложными соцветиями и растения с грушевидными плодами, простыми соцветиями. Гибриды первого поколения получились с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круглыми плодами, простыми соцветия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В анализирующем скрещивании этих гибридов получено четыре фенотипические группы: 103, 105, 18 и 19. Составьте схему решения задачи. Определите генотипы родителей, генотипы и фенотипы потомства каждой группы в двух скрещиваниях. Объясните формирование четырёх фенотипических групп в анализирующем скрещ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P ♀Ав//Ав . х   ♂аВ//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G А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1  Ав//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Р  ♀ Ав//аВ х   ♂ ав//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в, а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, ав . х   а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1 18 или 19 АаBb – округлые плоды, простые соцве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5 или 103 Ааbb – округлые плоды, сложные соцве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3 или 105 ааBb – грушевидные плоды, простые соцве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 или 18 ааbb –  грушевидные плоды, сложные соцве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Две группы некроссоверные (103 и 105) , результат сцепленного наследования аллелей А и в , а и В между собой. Две группы (19 и 18 ) образуются в результате кроссинго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рестили высокие растения томата с округлыми плодами и карл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тения с грушевидными плодами. Гибриды первого поколения получ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сокие с округлыми плодами. В анализирующем скрещивании эт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бридов получено четыре фенотипические группы: 40, 9, 10 и 44. Составьте схему решения задачи. Определите генотипы родителей, генотипы и фенотипы потомства каждой группы в двух скрещиваниях. Объяс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четырёх фенотипических групп в потом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участников ЕГЭ в регионе по категория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00200"/>
          <a:ext cx="9144000" cy="3838680"/>
        </p:xfrm>
        <a:graphic>
          <a:graphicData uri="http://schemas.openxmlformats.org/drawingml/2006/table">
            <a:tbl>
              <a:tblPr/>
              <a:tblGrid>
                <a:gridCol w="5715000"/>
                <a:gridCol w="3429000"/>
              </a:tblGrid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стников ЕГЭ по предм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ов текущего года, обучающихся по программам С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ов текущего года, обучающихся по программам С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ускников прошлых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ов с ограниченными возможностями здоров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66680" y="-34920"/>
            <a:ext cx="69343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-47520"/>
            <a:ext cx="899172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диционно наибольшие затруднения вызывают у участников ЕГЭ следующие разделы биологии: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мен веществ в клетке, реакции матричного синтеза, деление клетки, нейрогуморальная регуляция, селекция и биотехнология, генетика, жизненные циклы высших растений, циклы развития животных-паразитов, понятие гаметофита и спорофита, особенности строения различных типов и классов беспозвоночных животных, строение кровеносной системы у животных и человека, экосистемы, многие вопросы по эволюционной теории, строение различных тканей человека, круговорот веществ в биосфере, решение задач по генетике и молекулярной биологии. Вызвали существенные затруднения задания на установление последовательности процессов, протекающих при фотосинтезе, биосинтезе белка, гаметогенезе у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04920" y="35424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ительные затруднения вызвали задания на решение цитологических и генетических задач, с которым справились около 40% участников. 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. Типичной ошибкой явилось отсутствие умений объяснять полученный результат. Наибольшие затруднения вызвали задачи по генетике на сцепленное на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0" y="24840"/>
            <a:ext cx="914400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одготовки к экзамену следует обратить внимание: на биологическую терминологию и символику; химический состав клеток; особенности обмена веществ и превращения энергии, стадии энергетического обмена, фотосинтез, хемосинтез; хромосомный набор соматических и половых клеток; фазы митоза и мейоза; закономерности индивидуального развития организмов, наследственности и изменчивости; онтогенез растений и животных, циклы развития основных отделов растений; основные признаки царств, типов, отделов, классов живой природы, особенности строения растений и животных; строение сенсорных систем, нейрогуморальную регуляцию жизнедеятельности организма человека, особенности вегетативной нервной системы, высшей нервной деятельности человека; внутреннюю среду организма человека, иммунитет, обмен веществ и превращение энергии в организме человека; признаки различия и родства человека и животных; движущие силы эволюции и их значение; приспособленность организмов к среде обитания; направления и пути эволюции, основные ароморфозы и идиоадаптации в развитии растений и животных; экосистему и ее компоненты, экологические факторы, роль растений и животных в биоценозах;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живого вещества планеты; круговороты азота, кислорода, углерода, фосфора в природе; глобальные изменения в биосфере, вызванные деятельностью человек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0" y="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получения максимальных баллов при подготовке к экзамену выпускники должны владеть такими межпредметными понятиями, как «диффузия», «осмос», «гидролиз», «гомеостаз», «диполь», «диссоциация», «дыхательная цепь», «коллоидный раствор», «ионизирующее излучение», «парциальное давление» и др. Кроме того, выпускники должны знать, понимать и объяснять сущность таких понятий, как «взаимодействие генов»; «закономерности изменчивости», «сцепленное наследование»; «размножение и индивидуальное развитие организмов»; «явление гетерозиса»; «круговорот веществ и превращения энергии в экосистемах и биосфере»; «процессы жизнедеятельности организма человека»; «строение и признаки вирусов»; «получение полиплоидов и отдаленных гибридов». Они должны уметь: объяснять роль биологических теорий, законов, общность происхождения живых организмов, эволюцию растений и животных, взаимосвязи организмов, человека и окружающей среды, причины устойчивости, саморегуляции, саморазвития и смены экосистем, эволюцию видов; устанавливать взаимосвязи движущих сил эволюции, путей и направлений эволюции; сравнивать биологические процессы и явления, фазы митоза и мейоза; распознавать и описывать биологические объекты; определять принадлежность биологических объектов к определенной систематической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участников по типам О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600200"/>
          <a:ext cx="9144000" cy="3247920"/>
        </p:xfrm>
        <a:graphic>
          <a:graphicData uri="http://schemas.openxmlformats.org/drawingml/2006/table">
            <a:tbl>
              <a:tblPr/>
              <a:tblGrid>
                <a:gridCol w="7543800"/>
                <a:gridCol w="16002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стников ЕГЭ выпускников текущего г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средних общеобразовательных шко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лицеев и гимназ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школ в местах лишения своб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ускники общеобразовательных школ – интерн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6640" y="368280"/>
            <a:ext cx="80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участников ЕГЭ по предмету по АТЕ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219320"/>
          <a:ext cx="8077320" cy="5402160"/>
        </p:xfrm>
        <a:graphic>
          <a:graphicData uri="http://schemas.openxmlformats.org/drawingml/2006/table">
            <a:tbl>
              <a:tblPr/>
              <a:tblGrid>
                <a:gridCol w="3711600"/>
                <a:gridCol w="2259000"/>
                <a:gridCol w="2106720"/>
              </a:tblGrid>
              <a:tr h="13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частников ЕГ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от общего числа участников в регио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Орё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Ли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Мцен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лов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пнян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Знамен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0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Покров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0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Краснозоренски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33c0b"/>
                          </a:solidFill>
                          <a:latin typeface="Times New Roman"/>
                        </a:rPr>
                        <a:t>0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a"/>
                      </a:solidFill>
                    </a:lnL>
                    <a:lnR w="5760">
                      <a:solidFill>
                        <a:srgbClr val="00000a"/>
                      </a:solidFill>
                    </a:lnR>
                    <a:lnT w="5760">
                      <a:solidFill>
                        <a:srgbClr val="00000a"/>
                      </a:solidFill>
                    </a:lnT>
                    <a:lnB w="5760">
                      <a:solidFill>
                        <a:srgbClr val="00000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062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 4 административно-территориальных единицах: Болховском, Дмитровском, Сосковском и Хотынецком районах все участники ЕГЭ преодолели минимальный порог и набрали 36 и более баллов. Вместе с тем, высокобалльных работ в этих районах было немного. В 13 районах области не было ни одного выпускника, получившего высокие баллы (более 8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ое количество участников ЕГЭ, показавших хорошие зна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бравшие более 60 баллов, установлено в городе Мценске, Орле, а также во Мценском, Новодеревеньковском, Верховском  районах. Необходимо отметить, что в течение 3 лет участники ЕГЭ из города Мценска и Мценского района показывают стабильно высоки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0-12-31T21:43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